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B4F-17A8-434A-9589-1E9A7D92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50A-291B-4BE6-93E2-D7BD1E4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E80-1BAC-4AB2-9453-A175B639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CA8-319F-4C1C-ACF6-666984B2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52E-E655-4DBD-B264-07D580FC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769-8CF9-4D5E-ABF2-F4D1E916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E7A-6DFB-4209-A6B8-BCC95B60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E8F-8641-439C-9CF2-E93BD00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963-B11B-4951-80D5-CA50A69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95E-659F-48C5-AE66-31F560D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5BE-C834-4DE6-82C6-E925DFD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FF5-A263-40A5-9F17-3DF66E5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F2F2-F0AC-4841-B161-EB3010C42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c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ra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ender have an effect on how you can catch a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boys will catch better because football is a guy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o ge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ark out 10 20 30 yard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d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cor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o power poi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y- 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-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ane - 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i - missed 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ael -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re -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hypothesis was correct the boys caught more than the girls as you could see all the boys caught there's but one girl mi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y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h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9:52:19Z</dcterms:created>
  <dc:creator>USD376</dc:creator>
  <dc:description/>
  <dc:language>en-US</dc:language>
  <cp:lastModifiedBy>STERLING  USD376</cp:lastModifiedBy>
  <dcterms:modified xsi:type="dcterms:W3CDTF">2010-02-02T16:43:34Z</dcterms:modified>
  <cp:revision>4</cp:revision>
  <dc:subject/>
  <dc:title>Football catch</dc:title>
</cp:coreProperties>
</file>